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853-0F65-43E4-968B-FC0A6F64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39C-19DC-4A2E-9115-2576BF7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975-0ED3-4C5A-8134-5C60C90D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E3D-5449-452C-9E04-242BE583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C0D-113E-48F1-B18B-D8EDF91C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009-8FFD-4E5A-9BC8-4B37EC62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CCE-4B5F-4173-9E16-9672C9CF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442-DC50-4227-A0F8-17639D6E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115-B63D-49F2-88AD-930B0AE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BD2-9545-4CE4-B6C2-6A01025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9F2-69E0-43BA-AFE2-00A97DD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497-BA34-43ED-AA88-1A2BAF5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213-E0F7-4C15-8B1D-7AD611E2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7162920" cy="52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2320" y="4876920"/>
            <a:ext cx="1143000" cy="459720"/>
          </a:xfrm>
          <a:prstGeom prst="rect">
            <a:avLst/>
          </a:prstGeom>
          <a:solidFill>
            <a:srgbClr val="ffff99">
              <a:alpha val="43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22:23:47Z</dcterms:created>
  <dc:creator>testteacher</dc:creator>
  <dc:description/>
  <dc:language>en-US</dc:language>
  <cp:lastModifiedBy>testteacher</cp:lastModifiedBy>
  <dcterms:modified xsi:type="dcterms:W3CDTF">2009-04-22T22:25:59Z</dcterms:modified>
  <cp:revision>1</cp:revision>
  <dc:subject/>
  <dc:title>Slide 1</dc:title>
</cp:coreProperties>
</file>